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6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.xml"/><Relationship Id="rId8" Type="http://schemas.openxmlformats.org/officeDocument/2006/relationships/slide" Target="slide6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6.xml"/><Relationship Id="rId6" Type="http://schemas.openxmlformats.org/officeDocument/2006/relationships/slide" Target="slide15.xml"/><Relationship Id="rId7" Type="http://schemas.openxmlformats.org/officeDocument/2006/relationships/slide" Target="slide14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8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12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.xml"/><Relationship Id="rId7" Type="http://schemas.openxmlformats.org/officeDocument/2006/relationships/slide" Target="slide6.xml"/><Relationship Id="rId8" Type="http://schemas.openxmlformats.org/officeDocument/2006/relationships/slide" Target="slide12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ase klein o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alpierba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lase groß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absat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ehl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3960" y="54936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absatz fehl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trusordys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50840" y="549360"/>
            <a:ext cx="726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e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eicht ausdrückbar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UMN-Blase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trusordys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3"/>
            <a:endCxn id="16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Überdehnungsbla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4880" y="6396840"/>
            <a:ext cx="34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UMN = unteres motorisches Neur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ysiolog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verha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2840" y="549360"/>
            <a:ext cx="74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e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eicht ausdrückbar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physiolog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arnverha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7" idx="3"/>
            <a:endCxn id="17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chmerz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keine adäqua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arnabsatzmöglichkeit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wer o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ausdrückba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wege kaud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der Bl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unktionel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absatz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2" idx="3"/>
            <a:endCxn id="17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6" name=""/>
          <p:cNvCxnSpPr>
            <a:stCxn id="172" idx="3"/>
            <a:endCxn id="17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7" name=""/>
          <p:cNvSpPr/>
          <p:nvPr/>
        </p:nvSpPr>
        <p:spPr>
          <a:xfrm>
            <a:off x="1083600" y="549360"/>
            <a:ext cx="68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arn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lase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chwer oder nicht ausdrückba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wege kaud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Bl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82880" y="549360"/>
            <a:ext cx="708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e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chwer oder nicht ausdrückbar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bstruktion der ableitenden Harnwege kaudal der Bl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9" idx="3"/>
            <a:endCxn id="182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3" name=""/>
          <p:cNvCxnSpPr>
            <a:stCxn id="179" idx="3"/>
            <a:endCxn id="18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x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79" idx="3"/>
            <a:endCxn id="185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ntramur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in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12400" y="549360"/>
            <a:ext cx="72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e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chwer oder nicht ausdrückbar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bstruktion der ableitenden Harnwege kaudal der Bl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in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8" idx="3"/>
            <a:endCxn id="19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rolithias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ntzündungspropf (FLUTD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4520" y="639684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LUTD = Feline-Lower-Urinary-Tract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amur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98720" y="549360"/>
            <a:ext cx="71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e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chwer oder nicht ausdrückbar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bstruktion der ableitenden Harnwege kaudal der Bl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intramur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4" idx="3"/>
            <a:endCxn id="19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pasmus der Urethra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05560" y="549360"/>
            <a:ext cx="73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e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chwer oder nicht ausdrückbar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bstruktion der ableitenden Harnwege kaudal der Bl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x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9" idx="3"/>
            <a:endCxn id="20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ahyperplas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atumo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nktionel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absatz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4" idx="3"/>
            <a:endCxn id="206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7" name=""/>
          <p:cNvCxnSpPr>
            <a:stCxn id="204" idx="3"/>
            <a:endCxn id="208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Urethraspas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4" idx="3"/>
            <a:endCxn id="209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MN-Bl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82880" y="549360"/>
            <a:ext cx="708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lase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chwer oder nicht ausdrückbar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funktionelle Harnabsatz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flexdysynerg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5600" y="6396840"/>
            <a:ext cx="33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MN = oberes motorisches Neur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MN-Bl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4" idx="3"/>
            <a:endCxn id="216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7" name=""/>
          <p:cNvCxnSpPr>
            <a:stCxn id="214" idx="3"/>
            <a:endCxn id="218" idx="1"/>
          </p:cNvCxnSpPr>
          <p:nvPr/>
        </p:nvCxnSpPr>
        <p:spPr>
          <a:xfrm>
            <a:off x="3312720" y="4080960"/>
            <a:ext cx="2699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9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edikamen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4" idx="3"/>
            <a:endCxn id="219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Rückenmark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ranial von S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82880" y="549360"/>
            <a:ext cx="708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lase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chwer oder nicht ausdrückbar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funktionelle Harnabsatzstör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OMN-Bl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2136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intrakraniel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Läs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" y="6153480"/>
            <a:ext cx="33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MN = oberes motorisches Neur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 = Schwanzwirb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ückenmark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ranial von S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0440" y="549360"/>
            <a:ext cx="778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fehlend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e groß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chwer oder nicht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usdrückbar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unktionelle Harnabsatzstör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OMN-Bl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Läsion des Rückenmark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kranial von S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4" idx="3"/>
            <a:endCxn id="22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andscheibenvorfal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skospondyl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5600" y="6153480"/>
            <a:ext cx="33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MN = oberes motorisches Neur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 = Schwanzwirb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ase klein o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lpierba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3"/>
            <a:endCxn id="107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8" name=""/>
          <p:cNvCxnSpPr>
            <a:stCxn id="105" idx="3"/>
            <a:endCxn id="109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0" name=""/>
          <p:cNvCxnSpPr>
            <a:stCxn id="105" idx="3"/>
            <a:endCxn id="111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produktio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46880" y="549360"/>
            <a:ext cx="56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ase klein oder nicht palpierba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absatz nich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obachte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ostre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akraniel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äs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02240" y="549360"/>
            <a:ext cx="725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fehlend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e groß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chwer oder nicht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usdrückbar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unktionelle Harnabsatzstör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OMN-Bl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intrakranielle Läs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0" idx="3"/>
            <a:endCxn id="23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uma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5600" y="6396840"/>
            <a:ext cx="33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MN = oberes motorisches Neur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dikamen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82880" y="549360"/>
            <a:ext cx="70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fehlend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e groß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chwer oder nicht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usdrückbar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funktionelle Harnabsatzstörung &gt; OMN-Blase &gt; 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Medikamen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3"/>
            <a:endCxn id="23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Opiat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iefe Seda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5600" y="6396840"/>
            <a:ext cx="33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MN = oberes motorisches Neur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ethraspas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6280" y="549360"/>
            <a:ext cx="75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arnabsatz fehlend &gt; Blase groß &gt; schwer oder nicht ausdrückbar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funktionelle Harnabsatzstörung &gt; Urethraspas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2" idx="3"/>
            <a:endCxn id="24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chmer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FLUT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ach Katheterisier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4520" y="6153480"/>
            <a:ext cx="428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LUTD = Feline-Lower-Urinary-Tract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produktio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46160" y="549360"/>
            <a:ext cx="58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e klein oder nicht palpierbar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produktio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4" idx="3"/>
            <a:endCxn id="11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nur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Nierenversa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ur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versa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6160" y="549360"/>
            <a:ext cx="58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e klein oder nicht palpierbar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produktio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nurisches Nierenversa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9" idx="3"/>
            <a:endCxn id="12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sch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ptospir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ufnahme von Toxi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Ethylenglyko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Rosinen, Weintrauben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erminales Stadium ei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hronischen 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tre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91880" y="549360"/>
            <a:ext cx="698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e klein oder nicht palpierbar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postre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3"/>
            <a:endCxn id="12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eidseitiger Ureterenabris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eidseitige Ureterenobstru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arnblasenruptu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ase groß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icht ausdrückba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chwer o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nicht ausdrückba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0" idx="3"/>
            <a:endCxn id="13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4" name=""/>
          <p:cNvCxnSpPr>
            <a:stCxn id="130" idx="3"/>
            <a:endCxn id="13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942120" y="54936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ase groß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cht ausdrückba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UMN-Bl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hysiolog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verha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7" idx="3"/>
            <a:endCxn id="13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1" name=""/>
          <p:cNvCxnSpPr>
            <a:stCxn id="137" idx="3"/>
            <a:endCxn id="13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1032120" y="549360"/>
            <a:ext cx="56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ase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leicht ausdrückba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4880" y="6396840"/>
            <a:ext cx="34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UMN = unteres motorisches Neur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MN-Bl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  <a:endCxn id="147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8" name=""/>
          <p:cNvCxnSpPr>
            <a:stCxn id="145" idx="3"/>
            <a:endCxn id="14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0" name=""/>
          <p:cNvCxnSpPr>
            <a:stCxn id="145" idx="3"/>
            <a:endCxn id="151" idx="1"/>
          </p:cNvCxnSpPr>
          <p:nvPr/>
        </p:nvCxnSpPr>
        <p:spPr>
          <a:xfrm>
            <a:off x="3313080" y="4080960"/>
            <a:ext cx="2689920" cy="1351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etrusordys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äsion des Rücken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rks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bei S1-S3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Läs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Cauda equin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51560" y="549360"/>
            <a:ext cx="70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arn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lase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leicht ausdrückbar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UMN-Bl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4869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ysautono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4880" y="6153480"/>
            <a:ext cx="34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UMN = unteres motorisches Neur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 = Schwanzwirb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äsion des Rücken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rks bei S1-S3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äs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uda equin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50840" y="549360"/>
            <a:ext cx="726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e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eicht ausdrückbar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UMN-Blase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äsion des Rückenmarks bei S1-S3/Läsion der Cauda equin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5" idx="3"/>
            <a:endCxn id="15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andscheibenvorfal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um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Schwanzabris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akrumfraktu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Wirbelfraktur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skospondyl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4880" y="5910120"/>
            <a:ext cx="342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UMN = unteres motorisches Neur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 = Schwanzwirb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Gregor und Steffi</cp:lastModifiedBy>
  <cp:lastPrinted>1999-05-13T12:26:48Z</cp:lastPrinted>
  <dcterms:modified xsi:type="dcterms:W3CDTF">2008-10-17T10:57:37Z</dcterms:modified>
  <cp:revision>330</cp:revision>
  <dc:subject/>
  <dc:title>Vorstellung einer Neuheit</dc:title>
</cp:coreProperties>
</file>